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34CA-F92F-43FC-B974-70C9DCBF8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5F80-8DAC-4D04-968B-80FE77F07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B18E-EAB7-421A-B712-4C322DD30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2C99-9D97-4A85-A638-490E5BCFE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57E1F-3EB5-46C7-B2A5-0E646BB2E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7BCCB-2760-4755-884A-CCEABB0F8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2D054-B4F4-4A94-ADF0-843B17D47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BC21E-A8C8-4B34-941F-38B584407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BCF86-EC0E-4CB3-9F02-817A9E20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A9F28-5F6D-4A08-B72D-3D47B797A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A545F-BA95-4402-B5E4-BD72E9A5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4035-A146-4FC6-90A2-486449AE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A2D1A-BE7B-4D36-A315-E7EF1A1A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C8D8F-3EF5-4E02-B1EC-9F0E54F8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7C812-8D2E-4F99-94E0-CCF87A196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93D5B-3318-4C54-A073-3718928C0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46F72-91E7-4573-A61E-62FC1FDB6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D307-A201-42E2-8669-388B0365D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FC32-C144-4926-BD60-A12F9182B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95C6-C6A7-468E-952F-759F16EE9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4D2F-5A57-4030-B4AA-A47BCCD01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3127-695C-4F14-B020-CF63D1C1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780C-93DA-4EB6-AE66-4D400175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1276-91D5-450D-8706-3F242B36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24EC6-0602-4F01-839A-CC05899B45D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2A76-7DE0-4DCD-A541-3199976291A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automotive.com/2009/12/mercedes-benz/slk-class/photos/index.html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starpulse.com/Music/T.I./gallery/ti-music-w04/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fred Darby Jr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52680" y="419112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L ABOUT 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5000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END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153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ENJOYED I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286000" y="2362320"/>
            <a:ext cx="487692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tz Over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advTm="15000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’m good 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Basketbal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exti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Being m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80880" y="4267080"/>
            <a:ext cx="1822680" cy="1752840"/>
          </a:xfrm>
          <a:prstGeom prst="rect">
            <a:avLst/>
          </a:prstGeom>
          <a:ln w="0">
            <a:noFill/>
          </a:ln>
        </p:spPr>
      </p:pic>
    </p:spTree>
  </p:cSld>
  <p:transition advTm="15000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y favorite websites a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yspace. com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Youtube. com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Yahoo. Com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3isback. com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5000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y favorite foo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rawfish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izza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ork chop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Bar-b-q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umbo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hili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5000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y favorite teach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rs. Jon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ach Boutt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rs. You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rs. Webbe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5000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f I could I woul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Live in Dallas or Louisiana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ot go to schoo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Buy everything out of the mal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5000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10 years 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uld be in Dallas or Louisiana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Be a mechanic or enginee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ill own something (ex. car or house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38680" y="3505320"/>
            <a:ext cx="2819520" cy="17618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NBA.com Home"/>
          <p:cNvPicPr/>
          <p:nvPr/>
        </p:nvPicPr>
        <p:blipFill>
          <a:blip r:embed="rId3"/>
          <a:stretch/>
        </p:blipFill>
        <p:spPr>
          <a:xfrm>
            <a:off x="990720" y="3581280"/>
            <a:ext cx="1066680" cy="493920"/>
          </a:xfrm>
          <a:prstGeom prst="rect">
            <a:avLst/>
          </a:prstGeom>
          <a:ln w="0">
            <a:noFill/>
          </a:ln>
        </p:spPr>
      </p:pic>
    </p:spTree>
  </p:cSld>
  <p:transition advTm="15000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y favorite Artis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rtist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Lil Wayn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Z-ro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Kayne Wes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.I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ra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891040" y="1752480"/>
            <a:ext cx="2833920" cy="42195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ti-music-w0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00400" y="2666880"/>
            <a:ext cx="2673360" cy="3310200"/>
          </a:xfrm>
          <a:prstGeom prst="rect">
            <a:avLst/>
          </a:prstGeom>
          <a:ln w="0">
            <a:noFill/>
          </a:ln>
        </p:spPr>
      </p:pic>
    </p:spTree>
  </p:cSld>
  <p:transition advTm="15000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thlet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thle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-Mac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Kobe Bryant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Lebron Jam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Dwight Howard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errell Owens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L.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Kobe Bryant celebrates the team USA gold medal win.jpg"/>
          <p:cNvPicPr/>
          <p:nvPr/>
        </p:nvPicPr>
        <p:blipFill>
          <a:blip r:embed="rId1"/>
          <a:stretch/>
        </p:blipFill>
        <p:spPr>
          <a:xfrm>
            <a:off x="3657600" y="1752480"/>
            <a:ext cx="2847960" cy="4267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mcgrady_playfilegallery1.jpg"/>
          <p:cNvPicPr/>
          <p:nvPr/>
        </p:nvPicPr>
        <p:blipFill>
          <a:blip r:embed="rId2"/>
          <a:stretch/>
        </p:blipFill>
        <p:spPr>
          <a:xfrm>
            <a:off x="6553080" y="3200400"/>
            <a:ext cx="2286000" cy="2857680"/>
          </a:xfrm>
          <a:prstGeom prst="rect">
            <a:avLst/>
          </a:prstGeom>
          <a:ln w="0">
            <a:noFill/>
          </a:ln>
        </p:spPr>
      </p:pic>
    </p:spTree>
  </p:cSld>
  <p:transition advTm="15000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5:30:56Z</dcterms:created>
  <dc:creator>046student</dc:creator>
  <dc:description/>
  <dc:language>en-US</dc:language>
  <cp:lastModifiedBy>046student</cp:lastModifiedBy>
  <dcterms:modified xsi:type="dcterms:W3CDTF">2008-10-31T15:40:13Z</dcterms:modified>
  <cp:revision>9</cp:revision>
  <dc:subject/>
  <dc:title>Alfred Darby Jr.</dc:title>
</cp:coreProperties>
</file>